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2C4F-E43F-4FDD-978F-34C23A320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44B0-FBC7-42CF-94D9-F9CA3BF5D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0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7F3-85C9-4AAC-9E23-D065CF21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EAA-4AAF-483D-ABD9-DD8EAD24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5B4-8E97-4853-ACD8-E716675C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B35-87DD-49F6-BB1E-7FD1612E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1AE2F-6FD2-4777-8771-B1596B63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69FD0-8D53-4699-B78F-DE6D98A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FB738-FAAB-4C00-A036-A0D783E3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DFC63-D787-4877-80A6-0C24DD6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92A73-B528-4DA9-BF4B-F4BF1FDB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70AD9-A070-4FCF-94E3-F1028330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1A031-FD3E-4063-A994-B1FE7C5C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E74-7F1A-4FBC-9DA8-74AF3606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A2F13-3DAC-409E-A952-5E191140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ACEE5-9FEE-430B-8D1A-C2BC7A54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3ED00-E6F2-4B7E-9FEA-7D3AD00B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3D2D7-5E96-4F48-B703-2F48900A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072EA-E5A8-41AE-A6F4-98DAD946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430-580D-43D3-9CDB-27F7F33A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76F-4BEC-4637-A87B-B16FA887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F3B-74FE-4739-856C-0229E696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AD01-5FA0-414D-B05C-1E0FE90E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BF3-3B58-4937-8102-3B6A462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F87-B263-40C9-8F6C-F7CA87F6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A1A-4A8C-4262-A855-D843E964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0457-81E6-41BE-B536-15A83EDC4D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736E-8ADF-4646-A90D-294CCD6387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UcWpkWBX04E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irnow.gov/" TargetMode="External"/><Relationship Id="rId2" Type="http://schemas.openxmlformats.org/officeDocument/2006/relationships/hyperlink" Target="http://www.airnow.gov/index.cfm?action=student.main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lcome </a:t>
            </a:r>
            <a:r>
              <a:rPr b="0" lang="en-US" sz="4400" spc="-1" strike="noStrike">
                <a:solidFill>
                  <a:srgbClr val="e3e3ff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Daily Do No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Take your Water Cycle Homework Ou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Air Pollution movie Cl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 response questio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Just a few note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Computer Lab – webquest, smog city challe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440000" y="4952880"/>
            <a:ext cx="459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s://www.youtube.com/watch?v=UcWpkWBX04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chic-06181200-clear"/>
          <p:cNvPicPr/>
          <p:nvPr/>
        </p:nvPicPr>
        <p:blipFill>
          <a:blip r:embed="rId1"/>
          <a:stretch/>
        </p:blipFill>
        <p:spPr>
          <a:xfrm>
            <a:off x="1000080" y="1600200"/>
            <a:ext cx="7143840" cy="4495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1763280" y="6039000"/>
            <a:ext cx="32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Chicago - Summer 2000.</a:t>
            </a:r>
            <a:br>
              <a:rPr sz="1800"/>
            </a:b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Clear Day :  PM 2.5 &lt; 5 </a:t>
            </a:r>
            <a:r>
              <a:rPr b="0" lang="en-US" sz="1800" spc="-1" strike="noStrike">
                <a:solidFill>
                  <a:srgbClr val="e3e3ff"/>
                </a:solidFill>
                <a:latin typeface="Arial"/>
                <a:ea typeface="Arial"/>
              </a:rPr>
              <a:t>µg/m</a:t>
            </a:r>
            <a:r>
              <a:rPr b="0" lang="en-US" sz="1800" spc="-1" strike="noStrike" baseline="30000">
                <a:solidFill>
                  <a:srgbClr val="e3e3ff"/>
                </a:solidFill>
                <a:latin typeface="Arial"/>
                <a:ea typeface="Arial"/>
              </a:rPr>
              <a:t>3 </a:t>
            </a:r>
            <a:br>
              <a:rPr sz="1800"/>
            </a:b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5" descr="Fhwa with words"/>
          <p:cNvPicPr/>
          <p:nvPr/>
        </p:nvPicPr>
        <p:blipFill>
          <a:blip r:embed="rId2"/>
          <a:stretch/>
        </p:blipFill>
        <p:spPr>
          <a:xfrm>
            <a:off x="380880" y="6095880"/>
            <a:ext cx="520920" cy="5018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Berlin Sans FB"/>
              </a:rPr>
              <a:t>Clear Day in Chicago, Summer 2000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SMARTINK"/>
          <p:cNvSpPr/>
          <p:nvPr/>
        </p:nvSpPr>
        <p:spPr>
          <a:xfrm>
            <a:off x="3108240" y="2143080"/>
            <a:ext cx="17640" cy="457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SMARTINK"/>
          <p:cNvSpPr/>
          <p:nvPr/>
        </p:nvSpPr>
        <p:spPr>
          <a:xfrm>
            <a:off x="3108240" y="2143080"/>
            <a:ext cx="17640" cy="457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SMARTINK"/>
          <p:cNvSpPr/>
          <p:nvPr/>
        </p:nvSpPr>
        <p:spPr>
          <a:xfrm>
            <a:off x="3090960" y="2103480"/>
            <a:ext cx="131760" cy="120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SMARTINK"/>
          <p:cNvSpPr/>
          <p:nvPr/>
        </p:nvSpPr>
        <p:spPr>
          <a:xfrm>
            <a:off x="3090960" y="2103480"/>
            <a:ext cx="131760" cy="120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chic-35-082600"/>
          <p:cNvPicPr/>
          <p:nvPr/>
        </p:nvPicPr>
        <p:blipFill>
          <a:blip r:embed="rId1"/>
          <a:stretch/>
        </p:blipFill>
        <p:spPr>
          <a:xfrm>
            <a:off x="1371600" y="1600200"/>
            <a:ext cx="678168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904760" y="617220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e3ff"/>
                </a:solidFill>
                <a:latin typeface="Arial"/>
              </a:rPr>
              <a:t>Chicago - Summer 2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Hazy Day :  PM 2.5 = 35 </a:t>
            </a:r>
            <a:r>
              <a:rPr b="0" lang="en-US" sz="1800" spc="-1" strike="noStrike">
                <a:solidFill>
                  <a:srgbClr val="e3e3ff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e3e3ff"/>
                </a:solidFill>
                <a:latin typeface="Arial"/>
              </a:rPr>
              <a:t>g/m</a:t>
            </a:r>
            <a:r>
              <a:rPr b="0" lang="en-US" sz="1800" spc="-1" strike="noStrike" baseline="30000">
                <a:solidFill>
                  <a:srgbClr val="e3e3ff"/>
                </a:solidFill>
                <a:latin typeface="Arial"/>
              </a:rPr>
              <a:t>3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Berlin Sans FB"/>
              </a:rPr>
              <a:t>Hazy Day in Chicago, Summer 2000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ir Pollution Facts…YIKE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erlin Sans FB"/>
              </a:rPr>
              <a:t>Air Pollution kills people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Annual Deaths due t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Air Pollution</a:t>
            </a: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= 23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Drunk Driving = 17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Murder = 20,0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In NC, air pollution causes an EXTR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          </a:t>
            </a: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240,000 Asthma Atta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6,300 ER Vis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Berlin Sans FB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puter Lab Webquest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airnow.gov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airnow.gov/index.cfm?action=student.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G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1833480"/>
            <a:ext cx="7386480" cy="50245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228600" y="228600"/>
            <a:ext cx="765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What is this quote trying to say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What does it inspire you to do?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Does it make you want to encourage others to take action?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rrarium Labs Refreshers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is experiment represent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bottle represent?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Inside represent? 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teracy Grou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house Effect (10-15 minu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Cycle (10-15 minu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rrarium Observ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ailed Observations and Conclus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tate Quietly and Respectful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Air Pollution is a problem!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3" descr="air1"/>
          <p:cNvPicPr/>
          <p:nvPr/>
        </p:nvPicPr>
        <p:blipFill>
          <a:blip r:embed="rId1"/>
          <a:stretch/>
        </p:blipFill>
        <p:spPr>
          <a:xfrm>
            <a:off x="380880" y="1752480"/>
            <a:ext cx="3370320" cy="510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350px-Air_"/>
          <p:cNvPicPr/>
          <p:nvPr/>
        </p:nvPicPr>
        <p:blipFill>
          <a:blip r:embed="rId2"/>
          <a:stretch/>
        </p:blipFill>
        <p:spPr>
          <a:xfrm>
            <a:off x="4343400" y="1523880"/>
            <a:ext cx="3324240" cy="2210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air_pollution_china"/>
          <p:cNvPicPr/>
          <p:nvPr/>
        </p:nvPicPr>
        <p:blipFill>
          <a:blip r:embed="rId3"/>
          <a:stretch/>
        </p:blipFill>
        <p:spPr>
          <a:xfrm>
            <a:off x="3886200" y="3733920"/>
            <a:ext cx="48769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lution Detectors La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places around the school and at your home that you would like to measure air pollutant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20" y="12600"/>
            <a:ext cx="91440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Where does Air Pollution come from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300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rlin Sans FB"/>
              </a:rPr>
              <a:t>Human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rlin Sans FB"/>
              </a:rPr>
              <a:t>Natural Sources</a:t>
            </a: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9099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17" descr="18"/>
          <p:cNvPicPr/>
          <p:nvPr/>
        </p:nvPicPr>
        <p:blipFill>
          <a:blip r:embed="rId1"/>
          <a:srcRect l="5480" t="0" r="4110" b="0"/>
          <a:stretch/>
        </p:blipFill>
        <p:spPr>
          <a:xfrm>
            <a:off x="4495680" y="3276720"/>
            <a:ext cx="4343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12600"/>
            <a:ext cx="91440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Where does Air Pollution come from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30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rlin Sans FB"/>
              </a:rPr>
              <a:t>Human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Business, Industry, Facto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Fossil Fu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rlin Sans FB"/>
              </a:rPr>
              <a:t>Natural Sources</a:t>
            </a: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Fores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rlin Sans FB"/>
              </a:rPr>
              <a:t>Fires</a:t>
            </a: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erlin Sans FB"/>
              </a:rPr>
              <a:t>Volcanoes</a:t>
            </a: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099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" name="Picture 17" descr="18"/>
          <p:cNvPicPr/>
          <p:nvPr/>
        </p:nvPicPr>
        <p:blipFill>
          <a:blip r:embed="rId1"/>
          <a:srcRect l="5480" t="0" r="4110" b="0"/>
          <a:stretch/>
        </p:blipFill>
        <p:spPr>
          <a:xfrm>
            <a:off x="4495680" y="3276720"/>
            <a:ext cx="4343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lin Sans FB"/>
              </a:rPr>
              <a:t>Major Air Pollutants &amp; their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371600"/>
          <a:ext cx="8839080" cy="3546360"/>
        </p:xfrm>
        <a:graphic>
          <a:graphicData uri="http://schemas.openxmlformats.org/drawingml/2006/table">
            <a:tbl>
              <a:tblPr/>
              <a:tblGrid>
                <a:gridCol w="3047760"/>
                <a:gridCol w="57913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POLLUTANT</a:t>
                      </a:r>
                      <a:endParaRPr b="1" lang="en-US" sz="3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EFFECTS</a:t>
                      </a:r>
                      <a:endParaRPr b="1" lang="en-US" sz="3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Carbon Monoxid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rlin Sans FB"/>
                        </a:rPr>
                        <a:t>illnes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, death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Nitrogen Dioxid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rlin Sans FB"/>
                        </a:rPr>
                        <a:t>breathing problem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, lung damag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Sulfur Dioxid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rlin Sans FB"/>
                        </a:rPr>
                        <a:t>acid rai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, breathing problems 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Particulate Matter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rlin Sans FB"/>
                        </a:rPr>
                        <a:t>breathing problem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, throat irritation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Ozone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rlin Sans FB"/>
                        </a:rPr>
                        <a:t>smog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rlin Sans FB"/>
                        </a:rPr>
                        <a:t>,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rlin Sans FB"/>
                        </a:rPr>
                        <a:t>asthma</a:t>
                      </a:r>
                      <a:endParaRPr b="1" lang="en-US" sz="2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1288F503.WAV" descr=""/>
          <p:cNvPicPr/>
          <p:nvPr/>
        </p:nvPicPr>
        <p:blipFill>
          <a:blip r:embed="rId1"/>
          <a:stretch/>
        </p:blipFill>
        <p:spPr>
          <a:xfrm>
            <a:off x="58672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1A8B31BA.WAV" descr=""/>
          <p:cNvPicPr/>
          <p:nvPr/>
        </p:nvPicPr>
        <p:blipFill>
          <a:blip r:embed="rId2"/>
          <a:stretch/>
        </p:blipFill>
        <p:spPr>
          <a:xfrm>
            <a:off x="88390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B7F8112A.WAV" descr=""/>
          <p:cNvPicPr/>
          <p:nvPr/>
        </p:nvPicPr>
        <p:blipFill>
          <a:blip r:embed="rId3"/>
          <a:stretch/>
        </p:blipFill>
        <p:spPr>
          <a:xfrm>
            <a:off x="8839080" y="266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9" name="SMARTINK"/>
          <p:cNvSpPr/>
          <p:nvPr/>
        </p:nvSpPr>
        <p:spPr>
          <a:xfrm>
            <a:off x="3406680" y="2982960"/>
            <a:ext cx="3372120" cy="164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SMARTINK"/>
          <p:cNvSpPr/>
          <p:nvPr/>
        </p:nvSpPr>
        <p:spPr>
          <a:xfrm>
            <a:off x="3406680" y="2982960"/>
            <a:ext cx="3372120" cy="164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SMARTINK"/>
          <p:cNvSpPr/>
          <p:nvPr/>
        </p:nvSpPr>
        <p:spPr>
          <a:xfrm>
            <a:off x="3463920" y="3600360"/>
            <a:ext cx="1422360" cy="142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SMARTINK"/>
          <p:cNvSpPr/>
          <p:nvPr/>
        </p:nvSpPr>
        <p:spPr>
          <a:xfrm>
            <a:off x="3463920" y="3600360"/>
            <a:ext cx="1422360" cy="142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SMARTINK"/>
          <p:cNvSpPr/>
          <p:nvPr/>
        </p:nvSpPr>
        <p:spPr>
          <a:xfrm>
            <a:off x="6926400" y="3075120"/>
            <a:ext cx="1662120" cy="33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SMARTINK"/>
          <p:cNvSpPr/>
          <p:nvPr/>
        </p:nvSpPr>
        <p:spPr>
          <a:xfrm>
            <a:off x="6926400" y="3075120"/>
            <a:ext cx="1662120" cy="33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SMARTINK"/>
          <p:cNvSpPr/>
          <p:nvPr/>
        </p:nvSpPr>
        <p:spPr>
          <a:xfrm>
            <a:off x="4508640" y="4807080"/>
            <a:ext cx="1280880" cy="193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SMARTINK"/>
          <p:cNvSpPr/>
          <p:nvPr/>
        </p:nvSpPr>
        <p:spPr>
          <a:xfrm>
            <a:off x="4508640" y="4807080"/>
            <a:ext cx="1280880" cy="193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SMARTINK"/>
          <p:cNvSpPr/>
          <p:nvPr/>
        </p:nvSpPr>
        <p:spPr>
          <a:xfrm>
            <a:off x="4532400" y="2457360"/>
            <a:ext cx="1079280" cy="96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SMARTINK"/>
          <p:cNvSpPr/>
          <p:nvPr/>
        </p:nvSpPr>
        <p:spPr>
          <a:xfrm>
            <a:off x="4532400" y="2457360"/>
            <a:ext cx="1079280" cy="96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SMARTINK"/>
          <p:cNvSpPr/>
          <p:nvPr/>
        </p:nvSpPr>
        <p:spPr>
          <a:xfrm>
            <a:off x="3457440" y="2446200"/>
            <a:ext cx="1040040" cy="177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SMARTINK"/>
          <p:cNvSpPr/>
          <p:nvPr/>
        </p:nvSpPr>
        <p:spPr>
          <a:xfrm>
            <a:off x="3457440" y="2446200"/>
            <a:ext cx="1040040" cy="177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SMARTINK"/>
          <p:cNvSpPr/>
          <p:nvPr/>
        </p:nvSpPr>
        <p:spPr>
          <a:xfrm>
            <a:off x="3486240" y="4714920"/>
            <a:ext cx="1011240" cy="371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SMARTINK"/>
          <p:cNvSpPr/>
          <p:nvPr/>
        </p:nvSpPr>
        <p:spPr>
          <a:xfrm>
            <a:off x="3486240" y="4714920"/>
            <a:ext cx="1011240" cy="371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SMARTINK"/>
          <p:cNvSpPr/>
          <p:nvPr/>
        </p:nvSpPr>
        <p:spPr>
          <a:xfrm>
            <a:off x="6675480" y="4132440"/>
            <a:ext cx="2286000" cy="274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SMARTINK"/>
          <p:cNvSpPr/>
          <p:nvPr/>
        </p:nvSpPr>
        <p:spPr>
          <a:xfrm>
            <a:off x="6675480" y="4132440"/>
            <a:ext cx="2286000" cy="274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91440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erlin Sans FB"/>
              </a:rPr>
              <a:t>What is </a:t>
            </a:r>
            <a:r>
              <a:rPr b="0" lang="en-US" sz="4600" spc="-1" strike="noStrike" u="sng">
                <a:solidFill>
                  <a:srgbClr val="ffffff"/>
                </a:solidFill>
                <a:uFillTx/>
                <a:latin typeface="Berlin Sans FB"/>
              </a:rPr>
              <a:t>particulate matter</a:t>
            </a:r>
            <a:r>
              <a:rPr b="0" lang="en-US" sz="4600" spc="-1" strike="noStrike">
                <a:solidFill>
                  <a:srgbClr val="ffffff"/>
                </a:solidFill>
                <a:latin typeface="Berlin Sans FB"/>
              </a:rPr>
              <a:t>?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9099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erlin Sans FB"/>
              </a:rPr>
              <a:t>Tiny particles of dust and smoke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These particles make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rlin Sans FB"/>
              </a:rPr>
              <a:t>hard to breathe.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 (especially for                       older folks and young k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At_Risk"/>
          <p:cNvPicPr/>
          <p:nvPr/>
        </p:nvPicPr>
        <p:blipFill>
          <a:blip r:embed="rId1"/>
          <a:srcRect l="0" t="26744" r="0" b="4453"/>
          <a:stretch/>
        </p:blipFill>
        <p:spPr>
          <a:xfrm>
            <a:off x="6027840" y="2666880"/>
            <a:ext cx="3081240" cy="4038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336564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Smog…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m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og combined with air pollu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42920" y="2209680"/>
            <a:ext cx="4941720" cy="3810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3962520" y="35053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91440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Berlin Sans FB"/>
              </a:rPr>
              <a:t>GOOD vs. BAD OZONE…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099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The ozone layer i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rlin Sans FB"/>
              </a:rPr>
              <a:t>stratosphere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 protects us. It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Berlin Sans FB"/>
              </a:rPr>
              <a:t>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rlin Sans FB"/>
              </a:rPr>
              <a:t>Ground-level ozone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 mak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rlin Sans FB"/>
              </a:rPr>
              <a:t>SMOG AND POLLUTION</a:t>
            </a: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1" descr="ozone"/>
          <p:cNvPicPr/>
          <p:nvPr/>
        </p:nvPicPr>
        <p:blipFill>
          <a:blip r:embed="rId1"/>
          <a:srcRect l="1385" t="0" r="11110" b="0"/>
          <a:stretch/>
        </p:blipFill>
        <p:spPr>
          <a:xfrm>
            <a:off x="3886200" y="1219320"/>
            <a:ext cx="52578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772160" y="4565520"/>
            <a:ext cx="1725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5702400" cy="3124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962520" y="3048120"/>
            <a:ext cx="4695840" cy="351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23:58:48Z</dcterms:created>
  <dc:creator/>
  <dc:description/>
  <dc:language>en-US</dc:language>
  <cp:lastModifiedBy>Illana Livstrom</cp:lastModifiedBy>
  <dcterms:modified xsi:type="dcterms:W3CDTF">2014-10-15T21:23:22Z</dcterms:modified>
  <cp:revision>38</cp:revision>
  <dc:subject/>
  <dc:title>AIR QUALITY  “What’s in our Air?”</dc:title>
</cp:coreProperties>
</file>